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2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A9B-63A9-456B-B2A1-97CCE16B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7DB-1B12-4C6E-8DA5-360F60A6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A55-A21B-43DA-B9E8-7DB36969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236-B122-43D8-ABD8-17D8626D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3914-702E-4190-860A-62038404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A581-3448-46E6-8BC1-E9E258D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A77D-5D4D-4568-8160-6269EE2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C675-9FE4-4768-806C-8685180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9F59-E5A9-41D8-AE8D-87F4E19A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152F-920A-4207-BB60-A3A9B168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6D03-2F75-4939-8103-E11C12D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FEF-9B0F-4564-B5D1-32BCD63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765-9428-4BAD-A9BC-B94593F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0186-B6DF-43FA-91F1-258AC65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A5F3-1701-4EB4-9C21-3188D47B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1E1E-C1E8-4B41-87FB-1E86744F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68E9-B7A0-4FD5-A77C-999B583D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C46-9480-4285-9A12-F934C3B0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604-954E-4877-858C-22E374B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C7C-C89F-4FD2-9B6C-0FC0344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660-CCF1-47FD-8287-06E38D39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BF3-3D81-4413-8043-542729A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75A-010A-460B-9B13-61A98544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8BF-F75D-432E-BDFE-89B4BFEF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8DED-4FDA-4919-ADDA-9C21331AD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C472-A7BD-4AB8-A5A6-1920241F3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Great Depression Begi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HISTORY – Chapters 30-3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Stock Mark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ownership of a portion (share) of a company that is publicly traded (bought and so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make mone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low and sell high (difference = prof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and hold (company value increases over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ris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surance or guarantees of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Stock Market Crash – The Final Straw!!!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ule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ulation – buying and selling with the intent of making quick, large pro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ing on margin – buying a stock with a small down payment and borrowing the rest (up to 9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any problems?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sh – 10/29/29 (16 million shares tra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id-November investors lost $30 B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he Response to the Economic Collaps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4998" t="5999" r="14998" b="10799"/>
          <a:stretch/>
        </p:blipFill>
        <p:spPr>
          <a:xfrm>
            <a:off x="0" y="10620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would you tell those kid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49640" cy="197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003560" cy="175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819520" y="4724280"/>
            <a:ext cx="4022640" cy="1508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20200" y="369576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ERVATIVE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8480" y="346716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BERAL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000" y="62866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DICAL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ident Hoover’s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ical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ain optimist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lack of confidence in the economic future…..is foolis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gged individualism – succeed through ef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government involvement in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building projects – Boulder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Farm Board – help raise farm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struction Finance Corp – loan money to banks, industries, etc. (up to $2 bill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I veterans scheduled to receive a ‘bonus’ in 1945 (about $500 ea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,000 march to Washington in 19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 OUR BONUS NOW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 shantytown outside of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200400" cy="331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5080" y="2577960"/>
            <a:ext cx="38131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361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onus Army at the Capito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0080" y="1981080"/>
            <a:ext cx="5232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d of the Bonus Ar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over orders them to leave (most obe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 stay and are removed by US Army with force (gas and bull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 is shock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idential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896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ntary cooperation between ba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C to loan $ to banks, rr, and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FC to loan $ to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Building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 Farm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C – jobs for young men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A – help far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th-in-Securities – force companies to provide accurate 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Banking Act – help ba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RA - $ to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ational Impacts 1929-3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k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1933, 6000 banks closed (25% of all ban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 million individual savings accounts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facturing output cut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,000 businesses went bank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29 – 3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33 – 25% of eligible workers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ing workers take reduced pay and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– Urban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homelessn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on of shantytowns (Hoovervil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ging, soup kitchens, bread 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truction of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ding the rails” &gt; 2 million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ci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on for emplo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s in Rural Ar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ge numbers of farm foreclosures (over 400,000 between 1929-193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migrant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mers move West for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production destroys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Extreme drought creates ‘Dust Bow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l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13120" cy="3022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813120" cy="3740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20560" y="54770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less Tent City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nemploy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13120" cy="2625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810240" cy="3035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5029200"/>
            <a:ext cx="374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leeping in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53800" y="5435640"/>
            <a:ext cx="447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employment M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den, N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up Lines / Bread L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813120" cy="334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aiting for the T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Pages 386-38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wo causes and two effects for overproduction and under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Pages 388-3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and explain two actions the federal government took that made the Depression w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ust Bow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279600" cy="3200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massive relocation of Plains farmers to West Co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nt far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anklin Delano Roosevel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ed President 1932 (Democrat) – landslide vic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ised “A New Deal for the American Peop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go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ef for the nee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radio broadcasts to explain goals to the people – “Fireside ch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rst Hundred Day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R rushed through legislation to help the American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ction – close the banks, send in bank examiners and new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ORE CONFIDE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inancial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-Steagall Banking Act of 1933 – provide federal insurance for individual accounts (FD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Securities Act requires compan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complete factual financial information about the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rules for ‘insider’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conomic Refor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ricultural Adjustment Act – raise prices by lowering 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Industrial Recovery Act – promote fair business pract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Labor Relations Act (Wagner Act) – protects workers from unfair labor pract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 (CCC) provided jobs for young men building roads, parks, and planting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Progress Administration (WPA) – created jobs for 8 million people in everything from construction to 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Relief for the Need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deral Housing Administration – government loans for home mortg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 Act provi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ment insurance – supplemental insurance for retirees 65 or 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mployment comp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 to families with children and the dis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ponents to the New De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reme Court Rul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DR tries to “pack” th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nts 6 additional Justices added – Congress says NO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 Liberty Lea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should respect the rights of individuals and property (especially rich individuals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 Rights – No legislation to limit discrimination or create equality for African-American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Long Term Impacts of the New Deal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cit spending – spending more money on programs than the government receives in reven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government’s role in the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of workers’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abor Relations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ding No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Impact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king and Finance 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nessee Valley Authority – built dams to generate electricity and prevent 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04920" y="152280"/>
          <a:ext cx="85341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5341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3880" y="152280"/>
          <a:ext cx="64771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280"/>
                    <a:ext cx="6477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d of the Depressio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the New Deal programs relieved the nation’s suffering and provided hope for the American people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ive spending for equipment and supplies for WWII truly ended the Great Depression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overnment 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7238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ulative Bubb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Pages 390-3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speculative bub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examples of speculative bubb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ulative Bubb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uses of a Sick Econom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ine in 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ign Com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dated 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ine in Home Constr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s all associated busin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Cau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icultural Cri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ine in demand for farm g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ing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ing farm foreclo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consumer cre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ing debt creates reduced consumer spe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ven distribution of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goods than 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21:40:00Z</dcterms:created>
  <dc:creator> </dc:creator>
  <dc:description/>
  <dc:language>en-US</dc:language>
  <cp:lastModifiedBy>School District U46</cp:lastModifiedBy>
  <dcterms:modified xsi:type="dcterms:W3CDTF">2010-12-07T12:57:28Z</dcterms:modified>
  <cp:revision>49</cp:revision>
  <dc:subject/>
  <dc:title>The Great Depression Begins</dc:title>
</cp:coreProperties>
</file>